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F8B-052F-4720-8277-CB670D9E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01B-E06B-45BA-B5AA-60DCCA1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BF0-3766-423B-A4F1-2C989BEA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A28-861F-4B0F-92DC-935B7E60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FCA-E82E-498D-8882-C74D747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4AB-F6A6-43D8-B7E4-FCB5872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A8F-0076-4B5D-8425-EA47CFD4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FBE-D0A2-4AA3-AA86-3ED50BB5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599-FA7C-4C4B-BF25-CE7B417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299-9277-4775-BF34-E587E69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A72-7F35-43AB-8811-CDEEC3F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DAC-1B3C-411E-A170-BCA6EF1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FB0-9C83-4C32-B20D-B7F52821C6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резентация к уроку окружающего мира в 3 классе по теме </a:t>
            </a:r>
            <a:br>
              <a:rPr sz="4400"/>
            </a:b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«Животноводство»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гтярь Наталья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9 г. Новоалтай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Кон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392904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тайский край – регион традиционно развитого конево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нная отрасль представлена следующими направлениями: рабоче-пользовательное, спортивное (рысистое и верховое) и продуктивное табу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Пчеловодство"/>
          <p:cNvPicPr/>
          <p:nvPr/>
        </p:nvPicPr>
        <p:blipFill>
          <a:blip r:embed="rId1"/>
          <a:stretch/>
        </p:blipFill>
        <p:spPr>
          <a:xfrm>
            <a:off x="2786040" y="28584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000240"/>
            <a:ext cx="8964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человод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ует одну из важных отраслей сельского хозяйства. Нельзя рассматривать пчеловодство как обособленную отрасль, его трудно отнести к какому-то определенному сегменту экономики. С одной стороны, мед – это продукт питания, с другой, обладая целебными свойствами, является лекарством для населения. Алтайский мёд по показателям качества во многом превосходит сорта мёда других российских регионов. Пчеловодство наиболее развито в юго-западных районах лесной и лесостепной зон, а также в предгорье. Лидерами по производству меда являются Красногорский, Ельцовский, Усть-Калманский, Солтонский, Целинный, Краснощековский рай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Arial"/>
              </a:rPr>
              <a:t>Звероводство – это хозяйство по выращиванию пушных зверей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ым предприятием по разведению пушных зверей является ООО «ПЗК «Магистральный» Тальменского района. На 1 января 2009 года в этом хозяйстве содержалось более 7000 голов зверей, в том числе 6700 — норки и более 600 -соболя. Предприятием ведётся работа по восстановлению утраченного поголовья пушных зверей, приобретается племенной молодняк. В 2008 году предприятием реализовано около 30 тысяч штук шкурок. Хозяйство имеет статус племенного репроду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Много предстоит поработать труженникам сельского хозяйства и в дальнейшем.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Строительство, реконструкция и модернизация животноводческих помещений – одно из основных направлений приоритетной национальной программы в области сельского хозяйства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 rot="21301200">
            <a:off x="1476360" y="691920"/>
            <a:ext cx="496728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 rot="21115200">
            <a:off x="785880" y="2781360"/>
            <a:ext cx="73864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836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55700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животноводство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разводить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280" y="1197000"/>
            <a:ext cx="172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35280" y="1268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Основные отрасли животноводств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68360" y="242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68360" y="342900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ин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3429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360" y="4508640"/>
            <a:ext cx="3456000" cy="50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219640" y="4581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360" y="558972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219640" y="566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Животноводство Алтайского края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1640" y="1557360"/>
            <a:ext cx="468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оводств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тайского края представлено отраслями: молочное и мясное скотоводство, птицеводство, свиноводство, овцеводство, пантовое оленеводство, коневодство, пчеловодство, звероводство и рыбовод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на из значимых отраслей животноводства, которое включает в себя мясное и молочное скотоводство. Разведение крупного рогатого скота представляет большой экономический интерес, так как от него получают самые ценные и востребованные продукты 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у называют кормилицей,           символом благососто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Йошкар – Оле решили установить «памятник» корове. Идея установки принадлежит Министру сельского хозяйства Александру Егош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0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ущая отрасль мясного животно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щивают свиней крупной белой, уржумской и других п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«Антипинское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окомплекс «Озерский», свинокомплекс «Альтаир-Агро» строится в селе Клочки Ребрихи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тиц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– яичное и мясное; побочная продукция – перо, п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птицеводческие предприятия, специализирующиеся на производстве яйца – АКГУП «Птицефабрика «Молодежная» (Первомайский район), ООО»Птицефабрика «Комсомольская» (Павловский район), и ООО Агрофирма «Птицефабрика «Енисейская» (Бийский рай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00720" y="392904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3:13:00Z</dcterms:created>
  <dc:creator>Администратор2</dc:creator>
  <dc:description/>
  <dc:language>en-US</dc:language>
  <cp:lastModifiedBy>DNA7 X86</cp:lastModifiedBy>
  <dcterms:modified xsi:type="dcterms:W3CDTF">2012-09-24T10:48:19Z</dcterms:modified>
  <cp:revision>23</cp:revision>
  <dc:subject/>
  <dc:title>Животноводство Республики Марий Эл</dc:title>
</cp:coreProperties>
</file>